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fastca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F59-F50F-4B75-BFD6-51136E4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134-3B2C-4FCC-85D1-B1F1D8DC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71E-FE58-4C7F-AE16-CEC4DC1C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F37-6B7B-4518-89D5-045CFA2D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B9C-7E69-448A-B1E8-2089E8ED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412-2DC2-4A3C-BFBB-3CEE1C51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3CE-14F9-4EDE-B56A-056D805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BEB-B79B-4751-8B4F-142E50F4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56A-85ED-4D89-9FC3-9FEA9EE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EF4-03D9-424F-AEF8-C144E99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B30-CB5D-4DC7-92C6-2C35ED8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405-5450-495F-B76A-D7A0C71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154-C1FC-4B8D-BD3E-99A8B0E1A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lzipup01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fastcar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lzipup01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15880" y="1390680"/>
                <a:ext cx="4486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8680" y="3090960"/>
                <a:ext cx="161640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671920" y="2967120"/>
                <a:ext cx="129204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343320" y="4073400"/>
                <a:ext cx="560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114800" y="358632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94360" y="2973240"/>
                <a:ext cx="730080" cy="218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156280" y="4079880"/>
                <a:ext cx="55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35160" y="1365120"/>
                <a:ext cx="33908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82720" y="2762280"/>
                <a:ext cx="9241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08360" y="2786040"/>
                <a:ext cx="88272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12720" y="4314960"/>
            <a:ext cx="321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57680" y="4851360"/>
                <a:ext cx="1022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81080" y="4371840"/>
                <a:ext cx="695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21040" y="5281560"/>
                <a:ext cx="7095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>
            <a:off x="4083120" y="1320840"/>
            <a:ext cx="426960" cy="29113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08120" y="1379520"/>
                <a:ext cx="70632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01640" y="2773440"/>
                <a:ext cx="70956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49600" y="2297160"/>
                <a:ext cx="580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06400" y="1463760"/>
                <a:ext cx="582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8400" y="1539720"/>
                <a:ext cx="714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55920" y="3683160"/>
                <a:ext cx="580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89040" y="2900520"/>
                <a:ext cx="581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846000" y="2930400"/>
                <a:ext cx="4366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65120" y="4314960"/>
            <a:ext cx="321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5680" y="3340080"/>
            <a:ext cx="884160" cy="411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7, 8 – 7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9, 8 – 8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7280" y="1314360"/>
                <a:ext cx="5294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19000" y="2874960"/>
                <a:ext cx="21290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33720" y="3260880"/>
                <a:ext cx="1179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173480" y="2676600"/>
                <a:ext cx="72864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65640" y="37465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01600" y="1271520"/>
                <a:ext cx="74707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0960" y="2874960"/>
                <a:ext cx="226692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11480" y="3502080"/>
                <a:ext cx="539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218120" y="2792520"/>
                <a:ext cx="63792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1480" y="3760920"/>
                <a:ext cx="487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72080" y="3340080"/>
                <a:ext cx="536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729320" y="292752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702320" y="3687840"/>
                <a:ext cx="1011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754600" y="33386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77000" y="2887560"/>
                <a:ext cx="62244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859440" y="3863880"/>
                <a:ext cx="4762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000" y="1292400"/>
                <a:ext cx="73882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57360" y="5284800"/>
            <a:ext cx="1612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5160" y="4503600"/>
            <a:ext cx="46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46320" y="2190600"/>
                <a:ext cx="8823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03440" y="3706920"/>
                <a:ext cx="5284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76400" y="5708520"/>
                <a:ext cx="555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341520" y="5259240"/>
                <a:ext cx="55584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67080" y="6200640"/>
                <a:ext cx="507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46240" y="2266920"/>
                <a:ext cx="86076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3724200"/>
                <a:ext cx="5349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48040" y="3065400"/>
                <a:ext cx="639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043000" y="2295360"/>
                <a:ext cx="6415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51240" y="2305080"/>
                <a:ext cx="480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93760" y="4559400"/>
                <a:ext cx="520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85840" y="3795840"/>
                <a:ext cx="520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67080" y="3765600"/>
                <a:ext cx="438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V="1">
            <a:off x="2236680" y="528480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75120" y="5716440"/>
                <a:ext cx="10159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06880" y="5284800"/>
                <a:ext cx="76212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148360" y="6200640"/>
                <a:ext cx="509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60360" y="1190520"/>
                <a:ext cx="697716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57360" y="5284800"/>
            <a:ext cx="17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640" y="4081320"/>
            <a:ext cx="4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38400" y="2733840"/>
                <a:ext cx="461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03440" y="3706920"/>
                <a:ext cx="5284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04920" y="5710320"/>
                <a:ext cx="504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4720" y="5267160"/>
                <a:ext cx="5349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82640" y="6234120"/>
                <a:ext cx="4939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97080" y="2128680"/>
                <a:ext cx="484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flipH="1">
            <a:off x="1310760" y="2854440"/>
            <a:ext cx="335160" cy="465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58880" y="2336760"/>
                <a:ext cx="5191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2600" y="1320840"/>
                <a:ext cx="3144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52600" y="2735280"/>
                <a:ext cx="10350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81360" y="2743200"/>
                <a:ext cx="10350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32040" y="4829040"/>
                <a:ext cx="55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87520" y="4684680"/>
                <a:ext cx="1015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43400" y="4241880"/>
                <a:ext cx="5634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454560" y="5170320"/>
                <a:ext cx="507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H="1">
            <a:off x="1722600" y="1279440"/>
            <a:ext cx="731520" cy="29415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9200" y="1270080"/>
                <a:ext cx="386568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7280" y="2805120"/>
                <a:ext cx="13078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19280" y="2814480"/>
                <a:ext cx="1249200" cy="14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41560" y="4871880"/>
                <a:ext cx="1065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3760" y="4699080"/>
                <a:ext cx="460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09760" y="4276800"/>
                <a:ext cx="5014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17680" y="5248440"/>
                <a:ext cx="458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H="1">
            <a:off x="3322800" y="1279440"/>
            <a:ext cx="731520" cy="29415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07880" y="1270080"/>
                <a:ext cx="374832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585800" y="2743200"/>
                <a:ext cx="13082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913120" y="2814480"/>
                <a:ext cx="1249200" cy="14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179800" y="4826160"/>
                <a:ext cx="10648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70240" y="4699080"/>
                <a:ext cx="460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755880" y="4276800"/>
                <a:ext cx="50184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763800" y="5248440"/>
                <a:ext cx="459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H="1">
            <a:off x="2026800" y="1295280"/>
            <a:ext cx="731880" cy="29419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1346040"/>
                <a:ext cx="33512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14480" y="2743200"/>
                <a:ext cx="9241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95640" y="2814480"/>
                <a:ext cx="882720" cy="14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200320" y="4889520"/>
                <a:ext cx="1022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59040" y="4354560"/>
                <a:ext cx="695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678120" y="5264280"/>
                <a:ext cx="750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2332080" y="1295280"/>
            <a:ext cx="426960" cy="29116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46560" y="1419120"/>
                <a:ext cx="74304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14880" y="2876400"/>
                <a:ext cx="74628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052880" y="2263680"/>
                <a:ext cx="507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048200" y="1494000"/>
                <a:ext cx="509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338800" y="1488960"/>
                <a:ext cx="396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024440" y="3648240"/>
                <a:ext cx="61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017960" y="2917800"/>
                <a:ext cx="617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264280" y="2989440"/>
                <a:ext cx="43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782800" y="4327560"/>
            <a:ext cx="321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65600" y="3367080"/>
            <a:ext cx="884160" cy="411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1-25T19:22:22Z</dcterms:modified>
  <cp:revision>92</cp:revision>
  <dc:subject/>
  <dc:title>Slide 1</dc:title>
</cp:coreProperties>
</file>